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CF9-0BFB-44B2-932A-B0F73AA5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B2A-AEC3-43C6-A450-F93628FD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C51-A392-4D16-971E-10193147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046-6CAF-47F6-9944-3309BDD0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B60-D99C-4ECE-9ECB-C178659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69C-6C79-4F6C-81B6-1A9F1E9E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1FE-4E36-4365-9454-011655A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4D3-4497-4B62-A57F-57F1CFD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91E-E826-4BC7-AAF2-93AF257C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7FD-9C2B-42FA-8A4E-102F596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ADC-0A67-4F79-A238-9C434C13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120-D610-4AFF-BF2C-F3B897A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13345-D24F-4107-AF76-DC285A2735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CCA7A-DCE8-4223-92B3-E3884FEF7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41732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bstance Q has a pH of 1.5.  Substance Q is  ___________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trong ac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eak ac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trong 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eak 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ut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an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4 pH Indi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3976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cientists use different types of indicators to test the pH of substanc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 decode a complex question about indicato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Read the passage and question thoroughl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ake a concept map of the pass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Use the information from the question with the concept map to answer the ques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6960" y="565200"/>
            <a:ext cx="79344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olution of phenol red is used as a pH indicator. Its color exhibits a change from yellow to red over the pH range 6.8 to 8.2. Above pH 8.2, phenol red turns a bright pink color.  Jerry adds phenol red to a mystery solution.  The mystery solution turns pink.  Is the mystery solution an acid, base, or neutra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50480"/>
            <a:ext cx="9144000" cy="67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-63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enol red is an indicator dye that changes color from yellow to violet in the pH range 4.8 to 6.7.  Cameron adds Chlorophenol to a mystery substance.  Cameron observes that the mystery substance turns violet.  Based upon Cameron’s observations, which of the following statements is the best conclusion about the mystery subst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a strong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a strong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either neutral or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ystery substance is a weak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-6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1768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r team will be given guided practice sheets for each team me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NOT write on the sheets. You can ask for scratch paper to make concept maps if you need 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team member should write their answers on the colored piece of paper they were provided.  I will randomly collect 1 color of paper at the end of class to grade – so every group member should have the correct answ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assignment will be worth a daily grade and you will earn a team point for every correct answ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2:57:19Z</dcterms:created>
  <dc:creator>Caroline Roth</dc:creator>
  <dc:description/>
  <dc:language>en-US</dc:language>
  <cp:lastModifiedBy>Caroline Roth</cp:lastModifiedBy>
  <dcterms:modified xsi:type="dcterms:W3CDTF">2011-04-12T11:47:36Z</dcterms:modified>
  <cp:revision>7</cp:revision>
  <dc:subject/>
  <dc:title>9.4 pH Indicators</dc:title>
</cp:coreProperties>
</file>